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C88-1E47-4C3E-A6CB-B404714D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E53-F2EE-4AD4-BD1B-1C1000A9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BE6-C265-4CA5-8CCD-B167DA84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DE4-4545-40A4-9B89-3355C361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C3B2-981A-4F93-BB9C-19BC8CF5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CBD-2A3B-4624-A741-FE863CCA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CAC7-EE2A-4BA2-B5FF-73AF7714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FCDE-8DC0-4B0D-8C23-1A7A7C84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E359-6A68-4522-83D5-18274CE6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D2C5-6E87-4EAA-9963-CB172B1B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95B8-F6F0-4021-96BB-590C734B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8BE-CAB0-4AE2-861D-E6645C3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C64D-9F8A-4058-9FD3-DEE6CFF1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4E8C-D057-4A0E-9810-124034F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9C0D-5D7F-4CFF-94AB-AFFA6B06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B40-2A1B-4DFA-B9F8-61EE520D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246-C6F3-4F3D-B1A8-EB4D7309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834-DEAB-4451-AA1D-209897D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348-20C0-4E8B-938B-8E77663D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612-3E56-4C6D-813A-6CC465B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C0C-454A-46DA-BF83-CC69FAF0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27C-56BC-4A0D-8021-A2D9323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243-FF36-4C46-AD39-CAD03EAA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6A0-C1EC-4955-808A-9A96FEA5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0BD5-BF63-4818-BC8B-20E70D1B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DBE8-C6AA-42EB-9472-0B07AA013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quation Exam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24080" y="2128680"/>
          <a:ext cx="5224320" cy="7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128680"/>
                    <a:ext cx="522432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076480" y="2070000"/>
          <a:ext cx="552132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2070000"/>
                    <a:ext cx="5521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92200" y="1981080"/>
          <a:ext cx="848988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81080"/>
                    <a:ext cx="84898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3880" y="2133720"/>
          <a:ext cx="552132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55213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981080"/>
          <a:ext cx="745488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74548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2760" y="1981080"/>
          <a:ext cx="6753240" cy="10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981080"/>
                    <a:ext cx="67532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19280" y="1806480"/>
          <a:ext cx="754200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806480"/>
                    <a:ext cx="754200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31800" y="1806480"/>
          <a:ext cx="771696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806480"/>
                    <a:ext cx="771696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3520" y="1981080"/>
          <a:ext cx="861048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6104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63400" y="1981080"/>
          <a:ext cx="855036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981080"/>
                    <a:ext cx="85503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22440" y="1981080"/>
          <a:ext cx="843120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981080"/>
                    <a:ext cx="84312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#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066680" y="1981080"/>
          <a:ext cx="754092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409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2:14:56Z</dcterms:created>
  <dc:creator>Parkland High School</dc:creator>
  <dc:description/>
  <dc:language>en-US</dc:language>
  <cp:lastModifiedBy>Parkland High School</cp:lastModifiedBy>
  <dcterms:modified xsi:type="dcterms:W3CDTF">2010-09-21T12:23:43Z</dcterms:modified>
  <cp:revision>2</cp:revision>
  <dc:subject/>
  <dc:title>Equations Examples</dc:title>
</cp:coreProperties>
</file>